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40C40-D209-4FA2-A734-134A3713F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8580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D57-CC9B-4980-9F16-93E067E1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42B-C70B-4C4D-BF17-0752DDCD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B00-7280-4998-A299-7F010FAB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573-18D2-4AC6-8DE5-8E39D8F0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0DF-91FC-4F09-B197-3CF52418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59D-F69F-4BA6-8DCF-9D89A49C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506-5174-4196-B1B5-9E4AF340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876-4ECE-4E11-98D4-4D770970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9BA6-EC81-41EF-BB10-58847437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736-0CE9-4E3F-A81A-69386535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064-42B2-49B7-94D3-74F0849B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928-6F54-4876-A73D-9951A8ED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849CB-4F1F-4730-ABCC-625128963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63640" y="3213000"/>
            <a:ext cx="7380360" cy="334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56000" y="1268280"/>
            <a:ext cx="2484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59280" y="1449360"/>
            <a:ext cx="17290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55640" y="1628640"/>
            <a:ext cx="162108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782720" y="1628640"/>
                <a:ext cx="16002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Δ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b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6300720" y="2133720"/>
            <a:ext cx="140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915160" y="1652760"/>
                <a:ext cx="15080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Δ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v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764720" y="602136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00720" y="5445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ute aqueous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995640" y="4149720"/>
                <a:ext cx="1359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Δ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863640" y="225360"/>
            <a:ext cx="7380360" cy="633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48000" y="512640"/>
            <a:ext cx="755640" cy="75564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8720" y="4257720"/>
            <a:ext cx="755640" cy="75564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4076640"/>
            <a:ext cx="32400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3933720"/>
            <a:ext cx="32364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4005360"/>
            <a:ext cx="324000" cy="3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4257720"/>
            <a:ext cx="323640" cy="3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4581360"/>
            <a:ext cx="32400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4869000"/>
            <a:ext cx="323640" cy="3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96000" y="5013360"/>
            <a:ext cx="324000" cy="3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4976640"/>
            <a:ext cx="32364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4724280"/>
            <a:ext cx="32364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400640"/>
            <a:ext cx="324000" cy="3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51280" y="1841040"/>
            <a:ext cx="1189080" cy="119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1844640"/>
            <a:ext cx="1189080" cy="11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905360"/>
            <a:ext cx="17636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4400640"/>
            <a:ext cx="323640" cy="32364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3645000"/>
            <a:ext cx="172728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5373720"/>
            <a:ext cx="61272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4545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3789360"/>
            <a:ext cx="576360" cy="57636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4545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545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5337000"/>
            <a:ext cx="576360" cy="57636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0" idx="4"/>
            <a:endCxn id="79" idx="0"/>
          </p:cNvCxnSpPr>
          <p:nvPr/>
        </p:nvCxnSpPr>
        <p:spPr>
          <a:xfrm>
            <a:off x="2268000" y="4365720"/>
            <a:ext cx="360" cy="179640"/>
          </a:xfrm>
          <a:prstGeom prst="straightConnector1">
            <a:avLst/>
          </a:prstGeom>
          <a:ln w="12600">
            <a:solidFill>
              <a:srgbClr val="ffffff"/>
            </a:solidFill>
            <a:prstDash val="dash"/>
            <a:miter/>
          </a:ln>
        </p:spPr>
      </p:cxnSp>
      <p:cxnSp>
        <p:nvCxnSpPr>
          <p:cNvPr id="85" name=""/>
          <p:cNvCxnSpPr>
            <a:stCxn id="79" idx="2"/>
            <a:endCxn id="81" idx="6"/>
          </p:cNvCxnSpPr>
          <p:nvPr/>
        </p:nvCxnSpPr>
        <p:spPr>
          <a:xfrm flipH="1">
            <a:off x="1763640" y="4833360"/>
            <a:ext cx="216360" cy="360"/>
          </a:xfrm>
          <a:prstGeom prst="straightConnector1">
            <a:avLst/>
          </a:prstGeom>
          <a:ln w="12600">
            <a:solidFill>
              <a:srgbClr val="ffffff"/>
            </a:solidFill>
            <a:prstDash val="dash"/>
            <a:miter/>
          </a:ln>
        </p:spPr>
      </p:cxnSp>
      <p:cxnSp>
        <p:nvCxnSpPr>
          <p:cNvPr id="86" name=""/>
          <p:cNvCxnSpPr>
            <a:stCxn id="83" idx="0"/>
            <a:endCxn id="79" idx="4"/>
          </p:cNvCxnSpPr>
          <p:nvPr/>
        </p:nvCxnSpPr>
        <p:spPr>
          <a:xfrm flipV="1">
            <a:off x="2268000" y="5121360"/>
            <a:ext cx="360" cy="216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87" name=""/>
          <p:cNvCxnSpPr>
            <a:stCxn id="79" idx="6"/>
            <a:endCxn id="82" idx="2"/>
          </p:cNvCxnSpPr>
          <p:nvPr/>
        </p:nvCxnSpPr>
        <p:spPr>
          <a:xfrm>
            <a:off x="2556000" y="4833360"/>
            <a:ext cx="216000" cy="3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88" name=""/>
          <p:cNvSpPr/>
          <p:nvPr/>
        </p:nvSpPr>
        <p:spPr>
          <a:xfrm>
            <a:off x="2195640" y="4761000"/>
            <a:ext cx="755640" cy="755640"/>
          </a:xfrm>
          <a:prstGeom prst="ellipse">
            <a:avLst/>
          </a:prstGeom>
          <a:gradFill rotWithShape="0">
            <a:gsLst>
              <a:gs pos="0">
                <a:srgbClr val="a7dedd"/>
              </a:gs>
              <a:gs pos="100000">
                <a:srgbClr val="004e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114560" y="3645000"/>
            <a:ext cx="2341440" cy="234144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85800" y="123336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tkova</dc:creator>
  <dc:description/>
  <dc:language>en-US</dc:language>
  <cp:lastModifiedBy>tomkirch</cp:lastModifiedBy>
  <dcterms:modified xsi:type="dcterms:W3CDTF">2010-11-23T12:47:37Z</dcterms:modified>
  <cp:revision>1</cp:revision>
  <dc:subject/>
  <dc:title>Slide 1</dc:title>
</cp:coreProperties>
</file>